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1985-5B75-4752-A271-F3BA178274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74BD-EC59-4536-A764-40E0312F35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A1CB-E9C0-46B4-88B5-5459E1880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5B26-9ED6-408C-908D-C47AD309B8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7BB8-A462-46C0-8A69-10011AA34C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502F-666F-4DBE-A70C-F5EFF2E5C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2D23-2AFB-4EE5-A596-47831F5F62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B3A8-6031-408F-AD0A-C6902F175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6D51-794F-4630-861D-A8AF177E8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CB8A-D998-4CBA-AB2F-788D28AA8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BDB9-9B9A-4C34-9F3E-A72E5275A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5DDA-3806-4813-AAB2-9D82DD262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10B9-C974-4414-803D-76B81724A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96A6-B8A5-4D65-88D7-ECBF4E7A4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9464-79B6-43FF-BBE8-3ED1309E4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27A3-A45C-4CB7-81C1-3F7DEBEF6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5ED5-3047-4ADB-8D1D-487E968FE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D168-D7C4-4FFC-AEEA-493C61495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0A47-88AF-4218-9D7D-9966A63B9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824E-AE88-4723-875D-F7BA575F9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AA65-881E-413C-975D-827184BA9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266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66a6"/>
                </a:solidFill>
                <a:latin typeface="Times New Roman"/>
              </a:rPr>
              <a:t>Slide </a:t>
            </a:r>
            <a:fld id="{2B8A2CCD-B679-4F96-9013-17095754862E}" type="slidenum">
              <a:rPr b="0" lang="en-GB" sz="1100" spc="-1" strike="noStrike">
                <a:solidFill>
                  <a:srgbClr val="266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-35748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4" marL="1438200" indent="-36036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5" marL="1438200" indent="-360360">
              <a:spcBef>
                <a:spcPts val="601"/>
              </a:spcBef>
              <a:spcAft>
                <a:spcPts val="601"/>
              </a:spcAft>
              <a:buClr>
                <a:srgbClr val="3a4972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6" marL="1438200" indent="-360360">
              <a:spcBef>
                <a:spcPts val="601"/>
              </a:spcBef>
              <a:spcAft>
                <a:spcPts val="601"/>
              </a:spcAft>
              <a:buClr>
                <a:srgbClr val="3a4972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68120" y="6550200"/>
            <a:ext cx="215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66a6"/>
                </a:solidFill>
                <a:latin typeface="Arial"/>
              </a:rPr>
              <a:t>PricewaterhouseCoopers</a:t>
            </a:r>
            <a:endParaRPr b="0" lang="en-US" sz="11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" name="Text Box 31"/>
          <p:cNvSpPr/>
          <p:nvPr/>
        </p:nvSpPr>
        <p:spPr>
          <a:xfrm>
            <a:off x="6802560" y="6372360"/>
            <a:ext cx="215892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66a6"/>
                </a:solidFill>
                <a:latin typeface="Arial"/>
              </a:rPr>
              <a:t>Agosto 2008</a:t>
            </a:r>
            <a:endParaRPr b="0" lang="en-US" sz="11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-35748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4" marL="1438200" indent="-36036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5" marL="1438200" indent="-360360">
              <a:spcBef>
                <a:spcPts val="601"/>
              </a:spcBef>
              <a:spcAft>
                <a:spcPts val="601"/>
              </a:spcAft>
              <a:buClr>
                <a:srgbClr val="3a4972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6" marL="1438200" indent="-360360">
              <a:spcBef>
                <a:spcPts val="601"/>
              </a:spcBef>
              <a:spcAft>
                <a:spcPts val="601"/>
              </a:spcAft>
              <a:buClr>
                <a:srgbClr val="3a4972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71"/>
          <p:cNvSpPr/>
          <p:nvPr/>
        </p:nvSpPr>
        <p:spPr>
          <a:xfrm>
            <a:off x="84240" y="50760"/>
            <a:ext cx="8877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8eef7"/>
                </a:solidFill>
                <a:latin typeface="Arial"/>
              </a:rPr>
              <a:t>Consejo Profesional de Ciencias Económicas de la Ciudad Autónoma de Buenos Aires</a:t>
            </a:r>
            <a:endParaRPr b="0" lang="en-US" sz="3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8" name="Text Box 72"/>
          <p:cNvSpPr/>
          <p:nvPr/>
        </p:nvSpPr>
        <p:spPr>
          <a:xfrm>
            <a:off x="84240" y="1698480"/>
            <a:ext cx="887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Orientación profesional en Ciencias Económicas para jóvenes preuniversitarios</a:t>
            </a:r>
            <a:endParaRPr b="0" lang="en-US" sz="32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1dcee"/>
                </a:solidFill>
                <a:latin typeface="Arial"/>
              </a:rPr>
              <a:t>Carrera de Actuario</a:t>
            </a:r>
            <a:endParaRPr b="0" lang="en-US" sz="32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9" name="Text Box 77"/>
          <p:cNvSpPr/>
          <p:nvPr/>
        </p:nvSpPr>
        <p:spPr>
          <a:xfrm>
            <a:off x="263520" y="5248440"/>
            <a:ext cx="8877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8eef7"/>
                </a:solidFill>
                <a:latin typeface="Arial"/>
              </a:rPr>
              <a:t>Hernán Pérez Raffo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8eef7"/>
                </a:solidFill>
                <a:latin typeface="Arial"/>
              </a:rPr>
              <a:t>Agosto de 2011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Origen de la profesión de Actuari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90440" y="1681200"/>
            <a:ext cx="2116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8eef7"/>
                </a:solidFill>
                <a:latin typeface="Arial"/>
              </a:rPr>
              <a:t>Operaciones Económica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651040" y="1795320"/>
            <a:ext cx="1160640" cy="67788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te 1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7488360" y="1789200"/>
            <a:ext cx="1160280" cy="67788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te 2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4073400" y="2066760"/>
            <a:ext cx="3197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H="1">
            <a:off x="4073040" y="2238480"/>
            <a:ext cx="3110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4240080" y="1758960"/>
            <a:ext cx="319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stación – Bien o servici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4248000" y="2266920"/>
            <a:ext cx="319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Contraprestación – Preci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2579760" y="5845320"/>
            <a:ext cx="630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ecio = función de (costos, capital invertido, utilidad, otros)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141560" y="3503520"/>
            <a:ext cx="2108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8eef7"/>
                </a:solidFill>
                <a:latin typeface="Arial"/>
              </a:rPr>
              <a:t>Operaciones No Contingente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3395520" y="4334040"/>
            <a:ext cx="548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8299440" y="4064040"/>
            <a:ext cx="84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5462640" y="4232160"/>
            <a:ext cx="0" cy="18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2162160" y="4110120"/>
            <a:ext cx="3193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eef7"/>
                </a:solidFill>
                <a:latin typeface="Arial"/>
              </a:rPr>
              <a:t>Producción</a:t>
            </a:r>
            <a:r>
              <a:rPr b="0" lang="en-GB" sz="1400" spc="-1" strike="noStrike">
                <a:solidFill>
                  <a:srgbClr val="d8eef7"/>
                </a:solidFill>
                <a:latin typeface="Arial"/>
              </a:rPr>
              <a:t> ….......….....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4587840" y="4697280"/>
            <a:ext cx="1728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Cont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 flipV="1">
            <a:off x="5462640" y="447840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4486320" y="3605040"/>
            <a:ext cx="1944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Bien o Servici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5462640" y="3938760"/>
            <a:ext cx="0" cy="23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272280" y="4691160"/>
            <a:ext cx="2611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Financi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 flipV="1">
            <a:off x="6885000" y="440064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0" name="Line 32"/>
          <p:cNvSpPr/>
          <p:nvPr/>
        </p:nvSpPr>
        <p:spPr>
          <a:xfrm flipV="1">
            <a:off x="7264440" y="439416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1" name="Line 33"/>
          <p:cNvSpPr/>
          <p:nvPr/>
        </p:nvSpPr>
        <p:spPr>
          <a:xfrm flipV="1">
            <a:off x="7664400" y="439416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2" name="Line 34"/>
          <p:cNvSpPr/>
          <p:nvPr/>
        </p:nvSpPr>
        <p:spPr>
          <a:xfrm flipV="1">
            <a:off x="8129520" y="438768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Origen de la profesión de Actuari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90440" y="1681200"/>
            <a:ext cx="2116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8eef7"/>
                </a:solidFill>
                <a:latin typeface="Arial"/>
              </a:rPr>
              <a:t>Operaciones Económica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651040" y="1795320"/>
            <a:ext cx="1160640" cy="67788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te 1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488360" y="1789200"/>
            <a:ext cx="1160280" cy="67788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te 2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73400" y="2066760"/>
            <a:ext cx="3197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4073040" y="2238480"/>
            <a:ext cx="3110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240080" y="1758960"/>
            <a:ext cx="319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stación – Bien o servici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4248000" y="2266920"/>
            <a:ext cx="319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Contraprestación – Preci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1092240" y="3740040"/>
            <a:ext cx="2108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8eef7"/>
                </a:solidFill>
                <a:latin typeface="Arial"/>
              </a:rPr>
              <a:t>Operaciones Contingente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3346560" y="4570560"/>
            <a:ext cx="548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8250120" y="4300560"/>
            <a:ext cx="84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4" name="Line 28"/>
          <p:cNvSpPr/>
          <p:nvPr/>
        </p:nvSpPr>
        <p:spPr>
          <a:xfrm>
            <a:off x="5413320" y="4468680"/>
            <a:ext cx="0" cy="18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4538520" y="4933800"/>
            <a:ext cx="1729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Cont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6" name="Line 30"/>
          <p:cNvSpPr/>
          <p:nvPr/>
        </p:nvSpPr>
        <p:spPr>
          <a:xfrm flipV="1">
            <a:off x="5413320" y="471492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7" name="Rectangle 31"/>
          <p:cNvSpPr/>
          <p:nvPr/>
        </p:nvSpPr>
        <p:spPr>
          <a:xfrm>
            <a:off x="6222960" y="4927680"/>
            <a:ext cx="2611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Financi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8" name="Line 32"/>
          <p:cNvSpPr/>
          <p:nvPr/>
        </p:nvSpPr>
        <p:spPr>
          <a:xfrm flipV="1">
            <a:off x="6835680" y="463716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V="1">
            <a:off x="7215120" y="463068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V="1">
            <a:off x="7615080" y="463068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1" name="Line 35"/>
          <p:cNvSpPr/>
          <p:nvPr/>
        </p:nvSpPr>
        <p:spPr>
          <a:xfrm flipV="1">
            <a:off x="8080200" y="4624200"/>
            <a:ext cx="0" cy="2473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2" name="Line 36"/>
          <p:cNvSpPr/>
          <p:nvPr/>
        </p:nvSpPr>
        <p:spPr>
          <a:xfrm>
            <a:off x="8236080" y="4491000"/>
            <a:ext cx="0" cy="18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3" name="AutoShape 37"/>
          <p:cNvSpPr/>
          <p:nvPr/>
        </p:nvSpPr>
        <p:spPr>
          <a:xfrm rot="5400000">
            <a:off x="6714720" y="2822040"/>
            <a:ext cx="219240" cy="2822760"/>
          </a:xfrm>
          <a:custGeom>
            <a:avLst/>
            <a:gdLst>
              <a:gd name="textAreaLeft" fmla="*/ 140040 w 219240"/>
              <a:gd name="textAreaRight" fmla="*/ 219600 w 219240"/>
              <a:gd name="textAreaTop" fmla="*/ 73440 h 2822760"/>
              <a:gd name="textAreaBottom" fmla="*/ 2749320 h 282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77"/>
                </a:lnTo>
                <a:cubicBezTo>
                  <a:pt x="10800" y="9377"/>
                  <a:pt x="5400" y="10277"/>
                  <a:pt x="0" y="10277"/>
                </a:cubicBezTo>
                <a:cubicBezTo>
                  <a:pt x="5400" y="10277"/>
                  <a:pt x="10800" y="11177"/>
                  <a:pt x="10800" y="1207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4" name="Rectangle 38"/>
          <p:cNvSpPr/>
          <p:nvPr/>
        </p:nvSpPr>
        <p:spPr>
          <a:xfrm>
            <a:off x="5726160" y="3840120"/>
            <a:ext cx="2387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stación Contingente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2579760" y="5845320"/>
            <a:ext cx="630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ecio = ????????????????????????????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Origen de la profesión de Actuari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0680" y="1096920"/>
            <a:ext cx="2108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8eef7"/>
                </a:solidFill>
                <a:latin typeface="Arial"/>
              </a:rPr>
              <a:t>Operaciones Contingente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2475000" y="1927080"/>
            <a:ext cx="548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7378560" y="1657440"/>
            <a:ext cx="84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541760" y="1825560"/>
            <a:ext cx="0" cy="18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666960" y="2290680"/>
            <a:ext cx="1729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Cont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V="1">
            <a:off x="4541760" y="207180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5351400" y="2284560"/>
            <a:ext cx="2611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cio Financiad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5964120" y="199404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V="1">
            <a:off x="6343560" y="198756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V="1">
            <a:off x="6743880" y="198756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V="1">
            <a:off x="7209000" y="1981080"/>
            <a:ext cx="0" cy="247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7364520" y="1847880"/>
            <a:ext cx="0" cy="18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9" name="AutoShape 22"/>
          <p:cNvSpPr/>
          <p:nvPr/>
        </p:nvSpPr>
        <p:spPr>
          <a:xfrm rot="5400000">
            <a:off x="5843160" y="178920"/>
            <a:ext cx="219240" cy="2822760"/>
          </a:xfrm>
          <a:custGeom>
            <a:avLst/>
            <a:gdLst>
              <a:gd name="textAreaLeft" fmla="*/ 140040 w 219240"/>
              <a:gd name="textAreaRight" fmla="*/ 219600 w 219240"/>
              <a:gd name="textAreaTop" fmla="*/ 73440 h 2822760"/>
              <a:gd name="textAreaBottom" fmla="*/ 2749320 h 282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77"/>
                </a:lnTo>
                <a:cubicBezTo>
                  <a:pt x="10800" y="9377"/>
                  <a:pt x="5400" y="10277"/>
                  <a:pt x="0" y="10277"/>
                </a:cubicBezTo>
                <a:cubicBezTo>
                  <a:pt x="5400" y="10277"/>
                  <a:pt x="10800" y="11177"/>
                  <a:pt x="10800" y="1207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4854600" y="1197000"/>
            <a:ext cx="2387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8eef7"/>
                </a:solidFill>
                <a:latin typeface="Arial"/>
              </a:rPr>
              <a:t>Prestación Contingente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168120" y="2841480"/>
            <a:ext cx="732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ecio = función de (Prestación contingente, capital invertido, utilidad, otros)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2" name="AutoShape 29"/>
          <p:cNvSpPr/>
          <p:nvPr/>
        </p:nvSpPr>
        <p:spPr>
          <a:xfrm flipV="1" rot="16200000">
            <a:off x="3004560" y="2306520"/>
            <a:ext cx="292320" cy="2066760"/>
          </a:xfrm>
          <a:custGeom>
            <a:avLst/>
            <a:gdLst>
              <a:gd name="textAreaLeft" fmla="*/ 186840 w 292320"/>
              <a:gd name="textAreaRight" fmla="*/ 292680 w 292320"/>
              <a:gd name="textAreaTop" fmla="*/ 126360 h 2066760"/>
              <a:gd name="textAreaBottom" fmla="*/ 1940400 h 20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5"/>
                  <a:pt x="10800" y="4230"/>
                </a:cubicBezTo>
                <a:lnTo>
                  <a:pt x="10800" y="6818"/>
                </a:lnTo>
                <a:cubicBezTo>
                  <a:pt x="10800" y="8933"/>
                  <a:pt x="5400" y="11048"/>
                  <a:pt x="0" y="11048"/>
                </a:cubicBezTo>
                <a:cubicBezTo>
                  <a:pt x="5400" y="11048"/>
                  <a:pt x="10800" y="13163"/>
                  <a:pt x="10800" y="15278"/>
                </a:cubicBezTo>
                <a:lnTo>
                  <a:pt x="10800" y="17370"/>
                </a:lnTo>
                <a:cubicBezTo>
                  <a:pt x="10800" y="1948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1989000" y="3763800"/>
            <a:ext cx="2552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Mont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Temporalidad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Entorno Macroeconómic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4645080" y="3774960"/>
            <a:ext cx="2257200" cy="56700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Estadístic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4659480" y="3529080"/>
            <a:ext cx="226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eef7"/>
                </a:solidFill>
                <a:latin typeface="Arial"/>
              </a:rPr>
              <a:t>Disciplinas básicas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4624560" y="5029200"/>
            <a:ext cx="2419200" cy="79200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Derech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Economí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Sistem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4638600" y="4794120"/>
            <a:ext cx="226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eef7"/>
                </a:solidFill>
                <a:latin typeface="Arial"/>
              </a:rPr>
              <a:t>Otras disciplinas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8" name="Rectangle 35"/>
          <p:cNvSpPr/>
          <p:nvPr/>
        </p:nvSpPr>
        <p:spPr>
          <a:xfrm>
            <a:off x="4645080" y="4348080"/>
            <a:ext cx="3894120" cy="33012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Matemática Básic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9" name="Rectangle 36"/>
          <p:cNvSpPr/>
          <p:nvPr/>
        </p:nvSpPr>
        <p:spPr>
          <a:xfrm>
            <a:off x="6743880" y="3774960"/>
            <a:ext cx="1795320" cy="56700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Matemática Financier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Evolución de la Técnica Actuarial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35120" y="993600"/>
            <a:ext cx="1965240" cy="110664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temático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207040" y="909720"/>
            <a:ext cx="2644560" cy="119052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écnica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asada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 capacidad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 procesamient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3279600" y="1176480"/>
            <a:ext cx="1351080" cy="595080"/>
          </a:xfrm>
          <a:prstGeom prst="rightArrow">
            <a:avLst>
              <a:gd name="adj1" fmla="val 50000"/>
              <a:gd name="adj2" fmla="val 56760"/>
            </a:avLst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743040" y="2387520"/>
            <a:ext cx="1965240" cy="129708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licación a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ivel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trato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5214960" y="2303640"/>
            <a:ext cx="2644920" cy="138096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licación a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ivel de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dad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3287880" y="2627280"/>
            <a:ext cx="1350720" cy="595440"/>
          </a:xfrm>
          <a:prstGeom prst="rightArrow">
            <a:avLst>
              <a:gd name="adj1" fmla="val 50000"/>
              <a:gd name="adj2" fmla="val 56711"/>
            </a:avLst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743040" y="5778360"/>
            <a:ext cx="2552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Reserv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Equidad Individual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5299200" y="5715000"/>
            <a:ext cx="255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Solvenci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Equilibrio de largo plaz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d8eef7"/>
                </a:solidFill>
                <a:latin typeface="Arial"/>
              </a:rPr>
              <a:t>Viabilidad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buClr>
                <a:srgbClr val="d8ee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736560" y="3981600"/>
            <a:ext cx="1965240" cy="129672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tingente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5208480" y="3897360"/>
            <a:ext cx="2644920" cy="1380960"/>
          </a:xfrm>
          <a:prstGeom prst="rect">
            <a:avLst/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ministración de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iesgos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281400" y="4221000"/>
            <a:ext cx="1351080" cy="595440"/>
          </a:xfrm>
          <a:prstGeom prst="rightArrow">
            <a:avLst>
              <a:gd name="adj1" fmla="val 50000"/>
              <a:gd name="adj2" fmla="val 56726"/>
            </a:avLst>
          </a:prstGeom>
          <a:solidFill>
            <a:srgbClr val="3a49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Ambito de Aplicación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85680" y="1600200"/>
            <a:ext cx="51166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Seguro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Seguros 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Reaseguro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Financiera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Mercado de capitale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Sistema financiero – Banco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Ahorro y Préstamo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Capitalización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Seguridad Social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Salud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8eef7"/>
                </a:solidFill>
                <a:latin typeface="Arial"/>
                <a:ea typeface="Arial"/>
              </a:rPr>
              <a:t>Otras aplicaciones no tradicionales</a:t>
            </a:r>
            <a:endParaRPr b="0" lang="en-US" sz="20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CHEAD~38114.6369907407~868772"/>
          <p:cNvSpPr/>
          <p:nvPr/>
        </p:nvSpPr>
        <p:spPr>
          <a:xfrm>
            <a:off x="168120" y="174600"/>
            <a:ext cx="5038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8eef7"/>
                </a:solidFill>
                <a:latin typeface="Arial"/>
              </a:rPr>
              <a:t>Dónde podemos trabajar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68120" y="1774800"/>
            <a:ext cx="3695760" cy="349092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Compañías de Seguros 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400"/>
              </a:spcAft>
              <a:buClr>
                <a:srgbClr val="2666a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Vida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400"/>
              </a:spcAft>
              <a:buClr>
                <a:srgbClr val="2666a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Retir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400"/>
              </a:spcAft>
              <a:buClr>
                <a:srgbClr val="2666a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ART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400"/>
              </a:spcAft>
              <a:buClr>
                <a:srgbClr val="2666a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Generale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400"/>
              </a:spcAft>
              <a:buClr>
                <a:srgbClr val="2666a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  <a:ea typeface="Arial"/>
              </a:rPr>
              <a:t>Reasegurador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Intermediarios de Seguro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Bancos y Entidades Financier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Sociedades de Ahorro y Préstamo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Sociedades de Capitalización 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Empresas de Salud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Obras Sociale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Otras empres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96920" y="1468440"/>
            <a:ext cx="226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eef7"/>
                </a:solidFill>
                <a:latin typeface="Arial"/>
              </a:rPr>
              <a:t>Dentro de la empresa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948200" y="1731960"/>
            <a:ext cx="3702240" cy="536400"/>
          </a:xfrm>
          <a:prstGeom prst="rect">
            <a:avLst/>
          </a:prstGeom>
          <a:solidFill>
            <a:srgbClr val="d8eef7"/>
          </a:solidFill>
          <a:ln w="9360">
            <a:solidFill>
              <a:srgbClr val="3a4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Organismos Oficiales y de Control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Consultoras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66a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944960" y="1417680"/>
            <a:ext cx="295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eef7"/>
                </a:solidFill>
                <a:latin typeface="Arial"/>
              </a:rPr>
              <a:t>Desde fuera de la empresa</a:t>
            </a:r>
            <a:endParaRPr b="0" lang="en-US" sz="1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0"/>
          <p:cNvSpPr/>
          <p:nvPr/>
        </p:nvSpPr>
        <p:spPr>
          <a:xfrm>
            <a:off x="84240" y="50760"/>
            <a:ext cx="8877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8eef7"/>
                </a:solidFill>
                <a:latin typeface="Arial"/>
              </a:rPr>
              <a:t>Muchas Gracias</a:t>
            </a:r>
            <a:endParaRPr b="0" lang="en-US" sz="40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8:46:34Z</dcterms:created>
  <dc:creator>Mirta</dc:creator>
  <dc:description/>
  <dc:language>en-US</dc:language>
  <cp:lastModifiedBy>mcalvarez</cp:lastModifiedBy>
  <dcterms:modified xsi:type="dcterms:W3CDTF">2011-08-30T20:47:30Z</dcterms:modified>
  <cp:revision>59</cp:revision>
  <dc:subject/>
  <dc:title>N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B4 template type">
    <vt:lpwstr>Onscreen</vt:lpwstr>
  </property>
  <property fmtid="{D5CDD505-2E9C-101B-9397-08002B2CF9AE}" pid="3" name="TB4 template version">
    <vt:r8>4</vt:r8>
  </property>
</Properties>
</file>